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6BD-D4D3-40CF-9DD7-2B548ABE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4BF-DDF2-4EC5-9E68-9A931BEF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CC7-FBB6-4D07-81EB-6411AD01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772-03F1-4E39-A329-37130F84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0C2-C0B0-4C78-A73F-428A2FB5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E2A-098C-4526-BBD7-25041CB6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2E5-2E1B-4F11-9855-ACBE45C4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61D-84A4-414A-93CA-745933B7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4AC-6F1F-4D44-B294-2496470A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293-DFE8-4E00-9F60-FF55D589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441-28CA-4054-BA31-31396FCE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261-0C02-40BB-BD98-8E57F77E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8CFD-B0A8-4C2B-AA0F-E069C6BC78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0ce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Przybory do pisan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Dawniej i dzi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4" name="Obraz 3" descr="Pioro_gesie.jpg"/>
          <p:cNvPicPr/>
          <p:nvPr/>
        </p:nvPicPr>
        <p:blipFill>
          <a:blip r:embed="rId1"/>
          <a:stretch/>
        </p:blipFill>
        <p:spPr>
          <a:xfrm>
            <a:off x="2198520" y="1628640"/>
            <a:ext cx="474696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6" name="Obraz 3" descr="Pioro_stalowka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8" name="Obraz 3" descr="Pioro_wieczne.jpg"/>
          <p:cNvPicPr/>
          <p:nvPr/>
        </p:nvPicPr>
        <p:blipFill>
          <a:blip r:embed="rId1"/>
          <a:stretch/>
        </p:blipFill>
        <p:spPr>
          <a:xfrm>
            <a:off x="1998720" y="2060640"/>
            <a:ext cx="5146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c00000"/>
                </a:solidFill>
                <a:latin typeface="Calibri"/>
              </a:rPr>
              <a:t>KONIEC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7:59:13Z</dcterms:created>
  <dc:creator>Twoja nazwa użytkownika</dc:creator>
  <dc:description/>
  <dc:language>en-US</dc:language>
  <cp:lastModifiedBy>Grazyna</cp:lastModifiedBy>
  <dcterms:modified xsi:type="dcterms:W3CDTF">2010-11-12T14:43:52Z</dcterms:modified>
  <cp:revision>38</cp:revision>
  <dc:subject/>
  <dc:title>Slajd 1</dc:title>
</cp:coreProperties>
</file>